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ct" ContentType="image/x-pict"/>
  <Override PartName="/ppt/media/image13.pct" ContentType="image/x-pict"/>
  <Override PartName="/ppt/media/image8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97D-0B11-4520-963B-2FC0F37C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E88-86A3-4263-AA29-F9734784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CE3-9D18-4283-9ACA-9F985110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CF6-D856-4BCF-9A68-19AB2628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AA7D-11D3-44C6-8141-ABCB37FB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1983-6473-4DF7-9906-0CB70BB8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3AF-A048-4528-AE26-159B89CE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99B-54AF-4D06-BA4E-E86D1358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5FAB-C3F0-42DD-91D3-973AEF5D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D111-C994-4036-A277-C8F390DA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4F5-2D0A-4A0F-A1A1-25ECC1D4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723-BBE2-40FA-94B4-ECABF191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5F71-2019-4069-AD48-D2BE711548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9106-1154-412D-B4C6-3781B0625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0.xml"/><Relationship Id="rId13" Type="http://schemas.openxmlformats.org/officeDocument/2006/relationships/slide" Target="slide32.xml"/><Relationship Id="rId14" Type="http://schemas.openxmlformats.org/officeDocument/2006/relationships/slide" Target="slide34.xml"/><Relationship Id="rId15" Type="http://schemas.openxmlformats.org/officeDocument/2006/relationships/slide" Target="slide36.xml"/><Relationship Id="rId16" Type="http://schemas.openxmlformats.org/officeDocument/2006/relationships/slide" Target="slide40.xml"/><Relationship Id="rId17" Type="http://schemas.openxmlformats.org/officeDocument/2006/relationships/slide" Target="slide44.xml"/><Relationship Id="rId18" Type="http://schemas.openxmlformats.org/officeDocument/2006/relationships/slide" Target="slide44.xml"/><Relationship Id="rId19" Type="http://schemas.openxmlformats.org/officeDocument/2006/relationships/slide" Target="slide48.xml"/><Relationship Id="rId20" Type="http://schemas.openxmlformats.org/officeDocument/2006/relationships/slide" Target="slide50.xml"/><Relationship Id="rId21" Type="http://schemas.openxmlformats.org/officeDocument/2006/relationships/slide" Target="slide2.xml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9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0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8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9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0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1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9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120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-62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ombus, Rectangle, Squ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120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oid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1508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Quadrila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0" y="750960"/>
          <a:ext cx="9067680" cy="610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50960"/>
                    <a:ext cx="9067680" cy="61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42.9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s of the variables that make the figure a parallel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09680"/>
          <a:ext cx="8534160" cy="42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53416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22.7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1905120"/>
          <a:ext cx="9144000" cy="447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9144000" cy="44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s of the variables that make the figure a parallel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o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905120"/>
          <a:ext cx="8686800" cy="431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868680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s of the variables that make the figure a parallel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4 and x =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04920" y="1981080"/>
          <a:ext cx="8458200" cy="43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981080"/>
                    <a:ext cx="8458200" cy="43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values of the variables that make the figure a parallel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4 and y = 4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the exterior angles in degrees of a polygon with 100 side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7200" y="2590920"/>
          <a:ext cx="8153280" cy="27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90920"/>
                    <a:ext cx="815328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rmine if it is a parallelogram. Justify your answ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o, since opposite sides are not parallel and congruen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sides of a rhombus are 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gruen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angles of a rectangle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ight angle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diagonals of a rectangle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gruent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diagonals of a rhombus________ and 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erpendicular and angle bisector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360 degre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square is a combination of ________ and 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hombus and rectangle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 the sentence: The diagonals of a kite 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erpendicula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57200" y="1981080"/>
          <a:ext cx="8381880" cy="42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38188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 in the Trapez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828800" y="1338120"/>
          <a:ext cx="6172200" cy="55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38120"/>
                    <a:ext cx="6172200" cy="55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 and y in the Trapezo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600200" y="1447920"/>
          <a:ext cx="6019920" cy="49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60199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6 and y = no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um of the interior angles in degrees of a polygon that has 10 sid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 in the k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85800" y="1219320"/>
          <a:ext cx="7924680" cy="530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92468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1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rapezoid with congruent leg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sosceles trapezo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he most specific name for the quadrilater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057400" y="1676520"/>
          <a:ext cx="487692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676520"/>
                    <a:ext cx="48769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hombu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he most specific name for the quadrilater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81080" y="1828800"/>
          <a:ext cx="4648320" cy="451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46483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arallelogr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ve the most specific name for the quadrilateral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286000" y="1905120"/>
          <a:ext cx="4414680" cy="44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44146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quadrilater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1440 degre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 in the Squ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905120" y="1295280"/>
          <a:ext cx="508464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0846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22.6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3000" y="380880"/>
          <a:ext cx="7696080" cy="635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80880"/>
                    <a:ext cx="769608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51.03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62120" y="1523880"/>
          <a:ext cx="7315200" cy="50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315200" cy="50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x = 105.8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STAFF TGHS</cp:lastModifiedBy>
  <dcterms:modified xsi:type="dcterms:W3CDTF">2011-04-19T22:40:14Z</dcterms:modified>
  <cp:revision>35</cp:revision>
  <dc:subject/>
  <dc:title>Blank Jeopardy</dc:title>
</cp:coreProperties>
</file>